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499-1EF4-419F-91F5-143AFA6E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13A-E58A-44C7-B7F0-6CEAD5C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4B5-BC2A-4B7B-BD0A-72D59DC5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CDC-8598-46B9-A867-D72E02EB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44E8-3646-4AD9-AA92-2D8C358F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6EE-ADF4-412C-A833-9A349C66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67F-2899-4AF6-8B9D-A1CD1781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3478-FE09-4EB7-B933-BCADD3E9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0D28-F1BF-4A8A-846B-95C3520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9C29-4C63-45BB-92F7-9E7789B2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874D-240C-4F8D-9853-BF1EADC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30B-0832-4EA8-BAAC-FB4BD412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FA8-9069-492F-A911-FECE339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992D-EDAD-4732-9A66-B8D8C54D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94A-66B7-41F6-9BCB-DC4808A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C1B2-0996-422B-A893-91EB2303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59DE-5CB8-40ED-8F0E-308D0DCB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5A9-CAEE-4A42-92A1-E54C3789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7C1-6D84-4471-8B61-96902AD2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E1E-3889-4F67-BE29-2B14398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ABB-8F2D-42FA-8EB0-9F12738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CB0-F4CF-4487-B60E-3BFB00F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FA7-B6E5-4828-9321-F951D95F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4F5-9244-47EE-973E-1D16347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0B9-53BD-4EA3-8197-6C5CCFBEF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82B-6C7B-4D6D-B088-E0F46AC82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A- Finish the analog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red : exhausted :: ______ : fu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on : dismiss :: ______ : 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rrect answ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uld go in the first bla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o :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bout anything until the buzzer goes off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Vocabulary practice-match the following vocabulary word with its synonym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i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reak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ple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ser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rel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Vocabulary Practice-write the word that best goes in the blank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Shakespeare has a famous quote, “The evil that men do lives after them, the good is often _______ with their b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There were _______ circumstances in the murder t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It is a ________ when Haley’s Comet 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You need to ___________ the fact that the dog ate your home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 He was a ______ art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ig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Practi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five of the words and find an antonym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Open Boat-cont. Read from ch. 3 to ch. 5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to answer as you r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e correspondent say this is the best time of his lif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lighthouse described as a “little gray shadow?” What does this sh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the men’s mood change on page 457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3 passages that show Crane’s trademark use of figurative language and image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you think we are only told the oiler’s real name? What do you think might happen to him in the en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phrase, “Funny they can’t see us” repe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ironic about this line, “he would have tumbled comfortably out upon the ocean as if he felt sure that it was a great, soft mattress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 people on the shore thin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es the mood change on page 46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art does fate seem to play in this part of the st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3:46:30Z</dcterms:created>
  <dc:creator>Angie</dc:creator>
  <dc:description/>
  <dc:language>en-US</dc:language>
  <cp:lastModifiedBy>Angie</cp:lastModifiedBy>
  <dcterms:modified xsi:type="dcterms:W3CDTF">2009-01-13T05:21:08Z</dcterms:modified>
  <cp:revision>2</cp:revision>
  <dc:subject/>
  <dc:title>DOA- Finish the analogies</dc:title>
</cp:coreProperties>
</file>